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3.wmf" ContentType="image/x-wmf"/>
  <Override PartName="/ppt/media/image9.png" ContentType="image/png"/>
  <Override PartName="/ppt/media/image17.png" ContentType="image/png"/>
  <Override PartName="/ppt/media/image15.wmf" ContentType="image/x-wmf"/>
  <Override PartName="/ppt/media/image1.png" ContentType="image/png"/>
  <Override PartName="/ppt/media/image2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jpeg" ContentType="image/jpeg"/>
  <Override PartName="/ppt/media/image18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14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5271-5EDB-4B78-9B56-FAF24D1C7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5E18-DE8F-4293-B44B-1E587B9E1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CB92-F05A-4F29-9311-0FCAAB670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153C-00D3-4F68-8CD0-6DA9EDB1E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0477-9338-496A-9FB7-81283C09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A1C-E3D6-4BA6-94D5-42B07CEA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74A6-25C3-4D67-81F6-794A43CCF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F759-FCFB-48D3-9DD5-55AF1054D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4EA3-0702-4BAF-B477-62180FB56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ACC4-FA68-46F4-BA07-1D5A3040F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9751-BBB6-4697-B86D-686FE6C37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0031-D2AF-4B6B-A132-EBBECA95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2B74-2D27-4AE6-93F3-027A28530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DC4B-9FB9-47AC-BFE2-E39E08DEB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10FC-6123-456C-AD55-3437D438A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9AE5-B42C-41E7-8CF9-F8B05C12C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AA6B-1A44-4321-9749-029D22DB7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7834-A3BE-4C25-88B5-7651F5BA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D0E0-F6CF-4C30-8703-C3973DCCE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DB5B-B9C3-440B-BE73-090DFE17A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4EFD-4D7C-425D-90BD-7146C3C24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C471-74B2-4B5F-BF54-5F9422701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949C-0D65-429C-B286-2032CCC62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DBB4-0F97-450A-BE95-21A6C40C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2CC-8501-49DA-B4DF-1E9C099E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259-3353-403A-A82A-4AEC1A9C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D0E-C298-47EA-8B8D-61BCFE4B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B91-AD84-42E0-B7B5-18F06EB3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0AD7-AAD5-498B-A3F3-96F4D724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B022-DF2F-45F1-8A59-FC5EBACE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A854-6FEA-4803-95ED-82508C54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E861-2BAD-460E-A759-16809B31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875B-33BE-45BC-912E-E98B2866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55C4-A40B-4DC6-A609-B570078D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F75E-B5E9-4D9E-9B3D-E957661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657-A26D-428B-8CB6-E55DBF57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D0E6-3338-4410-B23C-7188D0F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BFE5-81D1-470B-8F3A-6EB3DEB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40F7-F101-47CE-BADD-994B94D4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2A91-37F6-42C9-B6D5-897F8357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DB02-0DA9-4382-A11B-F7B8E67F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0211-E738-410B-A51D-9B3F271A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7BF2-A02F-4044-8CD4-A4D7A5F7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CC09-0109-4233-A788-091029BC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7321-534B-4450-9732-9944F393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A9A8-475F-4B01-BDFB-D1592817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74E-BC1F-463F-8911-AB7D26A2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573F-C9C7-4ADF-9B3F-C5F4046A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EB40-D399-41EE-8301-BD268934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B0D0-A222-4204-AE32-692B2C5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2906-4959-424D-92EB-19E7380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D286-1A6E-46B1-AFA7-92B2E30B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C815-C3AB-44C5-BB52-CF00AFCF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81FC-8CA6-4C4E-BBFE-630E73CC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611D-DA48-4E0E-9E5A-96FE0D10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6878-CC82-420A-8013-97618CE6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EB35E-214A-44A6-885A-5D63D99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E16-C609-434F-B2E5-D3F486DA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9296-C4F1-48CB-950B-9FCA8F5F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C255-71AF-46E9-B899-070328D0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D905-332F-48E2-9535-DA2933C4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2C12-F59F-4B1C-99E3-CC4CFF3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5B9CB-6A63-4D54-A8CD-96BED1C9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16ED-A029-4638-9D39-30A81CD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7E4B-8AF0-40D1-9CCA-BD72C5BC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EBBBA-5C6C-499D-A897-8B4B2562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43058-1929-42F8-9CE4-44010C53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483-1869-4011-9F9F-9E709A7B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1B5-28B4-4A46-BAE2-EA458A46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782-D9DC-4938-8C91-EE2CC4A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D81-B91A-480E-ADEB-A958D4CD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90C-2AAF-4707-97EF-EC8772E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61D4-252B-4755-9398-0E55003CF9F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1C70-E1D6-4DBD-97AF-205B8324BB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9E69-C76A-49D1-BB8F-A585B84A8AF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0D99-208A-470F-A767-FB1BC3992C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1066680" y="1523880"/>
            <a:ext cx="7848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Georgia"/>
              </a:rPr>
              <a:t>Odgovorna provedba istraživanja</a:t>
            </a:r>
            <a:br>
              <a:rPr sz="3200"/>
            </a:br>
            <a:br>
              <a:rPr sz="1000"/>
            </a:br>
            <a:r>
              <a:rPr b="0" lang="hr-HR" sz="2400" spc="-1" strike="noStrike">
                <a:solidFill>
                  <a:srgbClr val="ff0000"/>
                </a:solidFill>
                <a:latin typeface="Georgia"/>
              </a:rPr>
              <a:t>(Responsible Conduct of Research, RCR)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mice"/>
          <p:cNvPicPr/>
          <p:nvPr/>
        </p:nvPicPr>
        <p:blipFill>
          <a:blip r:embed="rId1"/>
          <a:stretch/>
        </p:blipFill>
        <p:spPr>
          <a:xfrm>
            <a:off x="7391520" y="380880"/>
            <a:ext cx="1218960" cy="814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3657600" y="5257800"/>
            <a:ext cx="1981080" cy="563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2435760" y="4621320"/>
            <a:ext cx="40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rof.dr.sc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Ana Maruš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Georgia"/>
              </a:rPr>
              <a:t>poznata i kao Vancouver Grou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Georgia"/>
              </a:rPr>
              <a:t>neformalna skupina, a ne organizacija s članstv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Georgia"/>
              </a:rPr>
              <a:t>pišu </a:t>
            </a:r>
            <a:r>
              <a:rPr b="0" lang="hr-HR" sz="2100" spc="-1" strike="noStrike">
                <a:solidFill>
                  <a:srgbClr val="003399"/>
                </a:solidFill>
                <a:latin typeface="Georgia"/>
              </a:rPr>
              <a:t>Uniform Requirements for Manuscripts </a:t>
            </a:r>
            <a:r>
              <a:rPr b="0" lang="hr-HR" sz="1700" spc="-1" strike="noStrike">
                <a:solidFill>
                  <a:srgbClr val="003399"/>
                </a:solidFill>
                <a:latin typeface="Georgia"/>
              </a:rPr>
              <a:t>Submitted to Biomedical Journals</a:t>
            </a:r>
            <a:r>
              <a:rPr b="0" lang="hr-HR" sz="2100" spc="-1" strike="noStrike">
                <a:solidFill>
                  <a:srgbClr val="003399"/>
                </a:solidFill>
                <a:latin typeface="Georgia"/>
              </a:rPr>
              <a:t> (UR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1371600" y="969840"/>
            <a:ext cx="7238880" cy="336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ICMJE</a:t>
            </a:r>
            <a:r>
              <a:rPr b="0" lang="en-US" sz="3200" spc="-1" strike="noStrike">
                <a:solidFill>
                  <a:srgbClr val="006666"/>
                </a:solidFill>
                <a:latin typeface="Georgia"/>
              </a:rPr>
              <a:t> </a:t>
            </a:r>
            <a:r>
              <a:rPr b="0" lang="hr-HR" sz="3200" spc="-1" strike="noStrike">
                <a:solidFill>
                  <a:srgbClr val="006666"/>
                </a:solidFill>
                <a:latin typeface="Georgia"/>
              </a:rPr>
              <a:t>kriteriji autorstva</a:t>
            </a:r>
            <a:r>
              <a:rPr b="0" lang="en-US" sz="3200" spc="-1" strike="noStrike">
                <a:solidFill>
                  <a:srgbClr val="006666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57440" y="1827360"/>
            <a:ext cx="688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517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Georgi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Georgia"/>
              </a:rPr>
              <a:t>koncept i ustroj ili raščlamba i tumačenje podataka </a:t>
            </a:r>
            <a:r>
              <a:rPr b="0" lang="hr-HR" sz="2100" spc="-1" strike="noStrike">
                <a:solidFill>
                  <a:srgbClr val="ff0000"/>
                </a:solidFill>
                <a:latin typeface="Georgia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517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Georgi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Georgia"/>
              </a:rPr>
              <a:t>pisanje prve verzije članka ili njegova kritička revizija </a:t>
            </a:r>
            <a:r>
              <a:rPr b="0" lang="hr-HR" sz="2100" spc="-1" strike="noStrike">
                <a:solidFill>
                  <a:srgbClr val="ff0000"/>
                </a:solidFill>
                <a:latin typeface="Georgia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517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Georgi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Georgia"/>
              </a:rPr>
              <a:t>završno odobrenje članka prije tiskan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76280" indent="-344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hr-HR" sz="2600" spc="-1" strike="noStrike">
                <a:solidFill>
                  <a:srgbClr val="ff0000"/>
                </a:solidFill>
                <a:latin typeface="Georgia"/>
              </a:rPr>
              <a:t>+</a:t>
            </a:r>
            <a:r>
              <a:rPr b="0" lang="hr-HR" sz="2600" spc="-1" strike="noStrike">
                <a:solidFill>
                  <a:srgbClr val="000000"/>
                </a:solidFill>
                <a:latin typeface="Georgia"/>
              </a:rPr>
              <a:t> B </a:t>
            </a:r>
            <a:r>
              <a:rPr b="0" lang="hr-HR" sz="2600" spc="-1" strike="noStrike">
                <a:solidFill>
                  <a:srgbClr val="ff0000"/>
                </a:solidFill>
                <a:latin typeface="Georgia"/>
              </a:rPr>
              <a:t>+</a:t>
            </a:r>
            <a:r>
              <a:rPr b="0" lang="hr-HR" sz="2600" spc="-1" strike="noStrike">
                <a:solidFill>
                  <a:srgbClr val="000000"/>
                </a:solidFill>
                <a:latin typeface="Georgia"/>
              </a:rPr>
              <a:t> C = </a:t>
            </a:r>
            <a:r>
              <a:rPr b="0" lang="hr-HR" sz="2600" spc="-1" strike="noStrike">
                <a:solidFill>
                  <a:srgbClr val="ff0000"/>
                </a:solidFill>
                <a:latin typeface="Georgia"/>
              </a:rPr>
              <a:t>AUTORST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33520" y="180828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Georgia"/>
              </a:rPr>
              <a:t>Guest– Gostuju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Georgia"/>
              </a:rPr>
              <a:t>Gift – Poklonj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Georgia"/>
              </a:rPr>
              <a:t>Planted  – Podmetn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99"/>
                </a:solidFill>
                <a:latin typeface="Georgia"/>
              </a:rPr>
              <a:t>Ghost AUTHOR – AUTORI duh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99"/>
                </a:solidFill>
                <a:latin typeface="Georgia"/>
              </a:rPr>
              <a:t>Ghost WRITER – PISCI duh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TOLOGIJE” AUTORST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44560" y="1946160"/>
            <a:ext cx="6375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GUEST –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ne ispunjava sve ICMJE kriteri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GIFT – autorstvo “poklonjen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PLANTED  – autor kojemu je autorstvo “podmetnuto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744560" y="1945800"/>
            <a:ext cx="637560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13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Georgia"/>
              </a:rPr>
              <a:t>GHOST AUTHOR – autor koji je “nestao” spopisa autora iako je dovoljno sudjelova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0148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01480" indent="-501480">
              <a:lnSpc>
                <a:spcPct val="13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Georgia"/>
              </a:rPr>
              <a:t>GHOST  WRITER – autor kojeg se ne navodi kao autora iako je sudjelovao u pisanju člank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57200" y="213192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00"/>
                </a:solidFill>
                <a:latin typeface="Georgia"/>
              </a:rPr>
              <a:t>Autorstvo</a:t>
            </a:r>
            <a:br>
              <a:rPr sz="5400"/>
            </a:br>
            <a:r>
              <a:rPr b="0" lang="hr-HR" sz="5400" spc="-1" strike="noStrike">
                <a:solidFill>
                  <a:srgbClr val="000000"/>
                </a:solidFill>
                <a:latin typeface="Georgia"/>
              </a:rPr>
              <a:t>vs.</a:t>
            </a:r>
            <a:br>
              <a:rPr sz="5400"/>
            </a:br>
            <a:r>
              <a:rPr b="0" lang="hr-HR" sz="5400" spc="-1" strike="noStrike">
                <a:solidFill>
                  <a:srgbClr val="000000"/>
                </a:solidFill>
                <a:latin typeface="Georgia"/>
              </a:rPr>
              <a:t>Sudjelovan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57200" y="213192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00"/>
                </a:solidFill>
                <a:latin typeface="Georgia"/>
              </a:rPr>
              <a:t>Autorsko</a:t>
            </a:r>
            <a:br>
              <a:rPr sz="5400"/>
            </a:br>
            <a:r>
              <a:rPr b="0" lang="hr-HR" sz="5400" spc="-1" strike="noStrike">
                <a:solidFill>
                  <a:srgbClr val="000000"/>
                </a:solidFill>
                <a:latin typeface="Georgia"/>
              </a:rPr>
              <a:t>vs.</a:t>
            </a:r>
            <a:br>
              <a:rPr sz="5400"/>
            </a:br>
            <a:r>
              <a:rPr b="0" lang="hr-HR" sz="5400" spc="-1" strike="noStrike">
                <a:solidFill>
                  <a:srgbClr val="000000"/>
                </a:solidFill>
                <a:latin typeface="Georgia"/>
              </a:rPr>
              <a:t>NE-autorsk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662080" y="45720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7640" indent="-517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udjel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2770200" cy="1123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504960" cy="28036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0"/>
          <p:cNvSpPr/>
          <p:nvPr/>
        </p:nvSpPr>
        <p:spPr>
          <a:xfrm>
            <a:off x="6477120" y="16754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Georgia"/>
              </a:rPr>
              <a:t>AUTOR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 flipH="1">
            <a:off x="5333760" y="19051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 flipH="1" flipV="1">
            <a:off x="2895120" y="3885840"/>
            <a:ext cx="1676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066680" y="3640680"/>
            <a:ext cx="21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Georgia"/>
              </a:rPr>
              <a:t>u autorst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2"/>
          <p:cNvGrpSpPr/>
          <p:nvPr/>
        </p:nvGrpSpPr>
        <p:grpSpPr>
          <a:xfrm>
            <a:off x="6004080" y="4343400"/>
            <a:ext cx="1539720" cy="1904760"/>
            <a:chOff x="6004080" y="4343400"/>
            <a:chExt cx="1539720" cy="1904760"/>
          </a:xfrm>
        </p:grpSpPr>
        <p:sp>
          <p:nvSpPr>
            <p:cNvPr id="235" name="Line 15"/>
            <p:cNvSpPr/>
            <p:nvPr/>
          </p:nvSpPr>
          <p:spPr>
            <a:xfrm>
              <a:off x="6477120" y="434340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6"/>
            <p:cNvSpPr/>
            <p:nvPr/>
          </p:nvSpPr>
          <p:spPr>
            <a:xfrm>
              <a:off x="6072120" y="46717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>
              <a:off x="7086600" y="484020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>
              <a:off x="6553080" y="502920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9"/>
            <p:cNvSpPr/>
            <p:nvPr/>
          </p:nvSpPr>
          <p:spPr>
            <a:xfrm>
              <a:off x="6004080" y="53575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>
              <a:off x="6019920" y="55339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>
              <a:off x="6019920" y="62481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3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495680" cy="1216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5"/>
          <p:cNvSpPr/>
          <p:nvPr/>
        </p:nvSpPr>
        <p:spPr>
          <a:xfrm>
            <a:off x="4648320" y="5357880"/>
            <a:ext cx="3581280" cy="990360"/>
          </a:xfrm>
          <a:prstGeom prst="rect">
            <a:avLst/>
          </a:prstGeom>
          <a:noFill/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838080" y="5485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Georgia"/>
              </a:rPr>
              <a:t>“</a:t>
            </a:r>
            <a:r>
              <a:rPr b="0" lang="hr-HR" sz="2000" spc="-1" strike="noStrike">
                <a:solidFill>
                  <a:srgbClr val="003399"/>
                </a:solidFill>
                <a:latin typeface="Georgia"/>
              </a:rPr>
              <a:t>tek” sudjel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3200400" y="5638680"/>
            <a:ext cx="129528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1066680" y="28184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UDJEL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1"/>
          <p:cNvSpPr/>
          <p:nvPr/>
        </p:nvSpPr>
        <p:spPr>
          <a:xfrm>
            <a:off x="3429000" y="31240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4648320" y="3429000"/>
            <a:ext cx="3581280" cy="709560"/>
          </a:xfrm>
          <a:prstGeom prst="rect">
            <a:avLst/>
          </a:prstGeom>
          <a:noFill/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4"/>
          <p:cNvSpPr/>
          <p:nvPr/>
        </p:nvSpPr>
        <p:spPr>
          <a:xfrm flipH="1">
            <a:off x="3200400" y="3733920"/>
            <a:ext cx="1371600" cy="175248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4648320" y="4135320"/>
            <a:ext cx="3581280" cy="1219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6" descr=""/>
          <p:cNvPicPr/>
          <p:nvPr/>
        </p:nvPicPr>
        <p:blipFill>
          <a:blip r:embed="rId4"/>
          <a:stretch/>
        </p:blipFill>
        <p:spPr>
          <a:xfrm>
            <a:off x="7086600" y="76320"/>
            <a:ext cx="1703520" cy="26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7" descr=""/>
          <p:cNvPicPr/>
          <p:nvPr/>
        </p:nvPicPr>
        <p:blipFill>
          <a:blip r:embed="rId5"/>
          <a:stretch/>
        </p:blipFill>
        <p:spPr>
          <a:xfrm>
            <a:off x="6248520" y="1282680"/>
            <a:ext cx="2482560" cy="162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Georgia"/>
              </a:rPr>
              <a:t>Sudjelovanje</a:t>
            </a:r>
            <a:br>
              <a:rPr sz="4000"/>
            </a:b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je </a:t>
            </a:r>
            <a:r>
              <a:rPr b="0" lang="hr-HR" sz="2400" spc="-1" strike="noStrike">
                <a:solidFill>
                  <a:srgbClr val="ff0000"/>
                </a:solidFill>
                <a:latin typeface="Georgia"/>
              </a:rPr>
              <a:t>NIJ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ovezano 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UTORS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TVOM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95440" y="2660760"/>
            <a:ext cx="4811760" cy="22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eorgia"/>
              </a:rPr>
              <a:t>pristup materijalima ili pacijenti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eorgia"/>
              </a:rPr>
              <a:t>prikupljanje podata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eorgia"/>
              </a:rPr>
              <a:t>statistička ekspertiz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eorgia"/>
              </a:rPr>
              <a:t>financijska potp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eorgia"/>
              </a:rPr>
              <a:t>administrativna/tehnička potp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eorgia"/>
              </a:rPr>
              <a:t>garancija integrite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969000" cy="40388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 što još treba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RC</a:t>
            </a:r>
            <a:r>
              <a:rPr b="0" lang="hr-HR" sz="3600" spc="-1" strike="noStrike">
                <a:solidFill>
                  <a:srgbClr val="ff0000"/>
                </a:solidFill>
                <a:latin typeface="Georgia"/>
              </a:rPr>
              <a:t>R</a:t>
            </a:r>
            <a:br>
              <a:rPr sz="3200"/>
            </a:br>
            <a:r>
              <a:rPr b="0" lang="hr-HR" sz="2400" spc="-1" strike="noStrike">
                <a:solidFill>
                  <a:srgbClr val="006666"/>
                </a:solidFill>
                <a:latin typeface="Georgia"/>
              </a:rPr>
              <a:t>3 pitanja o etičnost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68120" y="2482560"/>
            <a:ext cx="456588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960" indent="-78372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Je li to istina?</a:t>
            </a:r>
            <a:br>
              <a:rPr sz="2900"/>
            </a:b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1628640" indent="-3358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0000"/>
                </a:solidFill>
                <a:latin typeface="Georgia"/>
              </a:rPr>
              <a:t>Falsificira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1628640" indent="-3358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0000"/>
                </a:solidFill>
                <a:latin typeface="Georgia"/>
              </a:rPr>
              <a:t>Fabrikaci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1628640" indent="-3358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0000"/>
                </a:solidFill>
                <a:latin typeface="Georgia"/>
              </a:rPr>
              <a:t>Plagira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1628640" indent="-3358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0000"/>
                </a:solidFill>
                <a:latin typeface="Georgia"/>
              </a:rPr>
              <a:t>kompetenci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1628640" indent="-3358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0000"/>
                </a:solidFill>
                <a:latin typeface="Georgia"/>
              </a:rPr>
              <a:t>statistik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19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585720" y="5661000"/>
            <a:ext cx="734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e avventure di Tofffsy e l'erba musicale 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© Audiovisivi Dema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toffsy4"/>
          <p:cNvPicPr/>
          <p:nvPr/>
        </p:nvPicPr>
        <p:blipFill>
          <a:blip r:embed="rId1"/>
          <a:stretch/>
        </p:blipFill>
        <p:spPr>
          <a:xfrm>
            <a:off x="685800" y="3124080"/>
            <a:ext cx="312408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432160" y="2031840"/>
            <a:ext cx="4279680" cy="27925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5"/>
          <p:cNvSpPr/>
          <p:nvPr/>
        </p:nvSpPr>
        <p:spPr>
          <a:xfrm>
            <a:off x="2438280" y="3733920"/>
            <a:ext cx="434340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 što još? Iliti i tko jo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447920" y="1648080"/>
            <a:ext cx="67053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kocept i dizajn istraž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analiza i interpretacija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posjedovanje/pristup poda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prikupljanje i sakupljanje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statistička ekspert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isanje prve verzije čla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kritička revizija intelektualnog sadržaja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završno odobravanje članka prije tisk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priskrba fina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administrativna/tehnička/logistička pot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i="1" lang="hr-HR" sz="2000" spc="-1" strike="noStrike">
                <a:solidFill>
                  <a:srgbClr val="ff0000"/>
                </a:solidFill>
                <a:latin typeface="Georgia"/>
              </a:rPr>
              <a:t>garantiranje integriteta istraž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930320" y="729720"/>
            <a:ext cx="51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Autorstvo 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0" i="1" lang="hr-HR" sz="3600" spc="-1" strike="noStrike">
                <a:solidFill>
                  <a:srgbClr val="ff0000"/>
                </a:solidFill>
                <a:latin typeface="Arial"/>
              </a:rPr>
              <a:t>Sudjel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600200" cy="520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4648320" y="6324480"/>
            <a:ext cx="44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CMJE. Uniform Requirements for Manuscripts submitted to Biomedical Journals. Ann. Intern. Med. 1997;126:36-4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666880" y="1828440"/>
            <a:ext cx="358632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3399"/>
                </a:solidFill>
                <a:latin typeface="Georgia"/>
              </a:rPr>
              <a:t>Budite iskreni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3399"/>
                </a:solidFill>
                <a:latin typeface="Georgia"/>
              </a:rPr>
              <a:t>Budite pošteni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3399"/>
                </a:solidFill>
                <a:latin typeface="Georgia"/>
              </a:rPr>
              <a:t>Znajte pravila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3399"/>
                </a:solidFill>
                <a:latin typeface="Georgia"/>
              </a:rPr>
              <a:t>Pitajt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11" descr=""/>
          <p:cNvPicPr/>
          <p:nvPr/>
        </p:nvPicPr>
        <p:blipFill>
          <a:blip r:embed="rId1"/>
          <a:stretch/>
        </p:blipFill>
        <p:spPr>
          <a:xfrm>
            <a:off x="3505320" y="5257800"/>
            <a:ext cx="1981080" cy="563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3505320" y="4525920"/>
            <a:ext cx="1981080" cy="655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"/>
          <p:cNvPicPr/>
          <p:nvPr/>
        </p:nvPicPr>
        <p:blipFill>
          <a:blip r:embed="rId1"/>
          <a:srcRect l="29475" t="21729" r="30000" b="17847"/>
          <a:stretch/>
        </p:blipFill>
        <p:spPr>
          <a:xfrm>
            <a:off x="1600200" y="1600200"/>
            <a:ext cx="5867280" cy="4724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3124080" cy="1033560"/>
          </a:xfrm>
          <a:prstGeom prst="rect">
            <a:avLst/>
          </a:prstGeom>
          <a:ln w="0">
            <a:noFill/>
          </a:ln>
        </p:spPr>
      </p:pic>
      <p:sp>
        <p:nvSpPr>
          <p:cNvPr id="269" name="Oval 7"/>
          <p:cNvSpPr/>
          <p:nvPr/>
        </p:nvSpPr>
        <p:spPr>
          <a:xfrm>
            <a:off x="3429000" y="3581280"/>
            <a:ext cx="1371600" cy="152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5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41440" y="2238120"/>
            <a:ext cx="417672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Je li to pravedno?</a:t>
            </a:r>
            <a:br>
              <a:rPr sz="1500"/>
            </a:br>
            <a:r>
              <a:rPr b="0" lang="hr-HR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5105520" y="4568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</a:rPr>
              <a:t>RC</a:t>
            </a:r>
            <a:r>
              <a:rPr b="0" lang="hr-HR" sz="1800" spc="-1" strike="noStrike">
                <a:solidFill>
                  <a:srgbClr val="ff0000"/>
                </a:solidFill>
                <a:latin typeface="Georgia"/>
              </a:rPr>
              <a:t>R</a:t>
            </a:r>
            <a:br>
              <a:rPr sz="1800"/>
            </a:br>
            <a:r>
              <a:rPr b="0" lang="hr-HR" sz="1800" spc="-1" strike="noStrike">
                <a:solidFill>
                  <a:srgbClr val="006666"/>
                </a:solidFill>
                <a:latin typeface="Georgia"/>
              </a:rPr>
              <a:t>3 pitanja o etičnosti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2057400" y="3352680"/>
            <a:ext cx="182880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25400" y="373392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straži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9" descr="calimero (3)"/>
          <p:cNvPicPr/>
          <p:nvPr/>
        </p:nvPicPr>
        <p:blipFill>
          <a:blip r:embed="rId1"/>
          <a:stretch/>
        </p:blipFill>
        <p:spPr>
          <a:xfrm>
            <a:off x="457200" y="3352680"/>
            <a:ext cx="153684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3"/>
          <p:cNvSpPr/>
          <p:nvPr/>
        </p:nvSpPr>
        <p:spPr>
          <a:xfrm>
            <a:off x="-267840" y="6021360"/>
            <a:ext cx="48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7680" indent="-51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Calimero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n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ni Pagot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4" descr=""/>
          <p:cNvPicPr/>
          <p:nvPr/>
        </p:nvPicPr>
        <p:blipFill>
          <a:blip r:embed="rId2"/>
          <a:stretch/>
        </p:blipFill>
        <p:spPr>
          <a:xfrm>
            <a:off x="388800" y="5661000"/>
            <a:ext cx="2372040" cy="380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5"/>
          <p:cNvSpPr/>
          <p:nvPr/>
        </p:nvSpPr>
        <p:spPr>
          <a:xfrm>
            <a:off x="5562720" y="2362320"/>
            <a:ext cx="26668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5562720" y="3505320"/>
            <a:ext cx="26668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5562720" y="4648320"/>
            <a:ext cx="26668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5581080" y="2666880"/>
            <a:ext cx="24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7680" indent="-51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traži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5658480" y="3733920"/>
            <a:ext cx="23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7680" indent="-51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pit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5659200" y="4876920"/>
            <a:ext cx="24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7680" indent="-51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st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 flipV="1">
            <a:off x="3995640" y="2895120"/>
            <a:ext cx="1414440" cy="698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4067280" y="4025880"/>
            <a:ext cx="1342800" cy="126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>
            <a:off x="3924360" y="4530600"/>
            <a:ext cx="1409760" cy="57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995480" y="2363400"/>
            <a:ext cx="650088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Je li to mudro?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0000"/>
                </a:solidFill>
                <a:latin typeface="Georgia"/>
              </a:rPr>
              <a:t>odnos istraživač – opće dob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priorite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financijska odgovorn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javnost služb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hr-HR" sz="2200" spc="-1" strike="noStrike">
                <a:solidFill>
                  <a:srgbClr val="000000"/>
                </a:solidFill>
                <a:latin typeface="Georgia"/>
              </a:rPr>
              <a:t>zabranjena” znanj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5105520" y="4568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</a:rPr>
              <a:t>RC</a:t>
            </a:r>
            <a:r>
              <a:rPr b="0" lang="hr-HR" sz="1800" spc="-1" strike="noStrike">
                <a:solidFill>
                  <a:srgbClr val="ff0000"/>
                </a:solidFill>
                <a:latin typeface="Georgia"/>
              </a:rPr>
              <a:t>R</a:t>
            </a:r>
            <a:br>
              <a:rPr sz="1800"/>
            </a:br>
            <a:r>
              <a:rPr b="0" lang="hr-HR" sz="1800" spc="-1" strike="noStrike">
                <a:solidFill>
                  <a:srgbClr val="006666"/>
                </a:solidFill>
                <a:latin typeface="Georgia"/>
              </a:rPr>
              <a:t>3 pitanja o etičnosti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5" name="Picture 4" descr="Baltazar"/>
          <p:cNvPicPr/>
          <p:nvPr/>
        </p:nvPicPr>
        <p:blipFill>
          <a:blip r:embed="rId1"/>
          <a:stretch/>
        </p:blipFill>
        <p:spPr>
          <a:xfrm>
            <a:off x="676440" y="2971800"/>
            <a:ext cx="1685880" cy="312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4038480" y="6019920"/>
            <a:ext cx="685800" cy="4284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>
            <a:off x="1371600" y="60958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Profesor Baltazar –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57200" y="1828800"/>
            <a:ext cx="8153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66"/>
                </a:solidFill>
                <a:latin typeface="Georgia"/>
              </a:rPr>
              <a:t>Znanstvenoistraživačka čestitost</a:t>
            </a:r>
            <a:br>
              <a:rPr sz="4000"/>
            </a:br>
            <a:br>
              <a:rPr sz="1600"/>
            </a:br>
            <a:r>
              <a:rPr b="0" lang="hr-HR" sz="3200" spc="-1" strike="noStrike">
                <a:solidFill>
                  <a:srgbClr val="ff0000"/>
                </a:solidFill>
                <a:latin typeface="Georgia"/>
              </a:rPr>
              <a:t>(Research Integrity)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RI</a:t>
            </a:r>
            <a:br>
              <a:rPr sz="4000"/>
            </a:b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Z-I čestitos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22860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Briga da javno prikazani rezultati dosljedno odgovaraju provedenim istraživanjima, tj. da </a:t>
            </a:r>
            <a:r>
              <a:rPr b="0" lang="hr-HR" sz="2900" spc="-1" strike="noStrike">
                <a:solidFill>
                  <a:srgbClr val="ff0000"/>
                </a:solidFill>
                <a:latin typeface="Georgia"/>
              </a:rPr>
              <a:t>NE</a:t>
            </a: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 postoji znanstveno “nepoštenje”</a:t>
            </a:r>
            <a:br>
              <a:rPr sz="2900"/>
            </a:br>
            <a:r>
              <a:rPr b="0" lang="hr-HR" sz="2900" spc="-1" strike="noStrike">
                <a:solidFill>
                  <a:srgbClr val="ff0000"/>
                </a:solidFill>
                <a:latin typeface="Georgia"/>
              </a:rPr>
              <a:t>(</a:t>
            </a:r>
            <a:r>
              <a:rPr b="0" i="1" lang="hr-HR" sz="2900" spc="-1" strike="noStrike">
                <a:solidFill>
                  <a:srgbClr val="ff0000"/>
                </a:solidFill>
                <a:latin typeface="Georgia"/>
              </a:rPr>
              <a:t>scientific misconduct</a:t>
            </a:r>
            <a:r>
              <a:rPr b="0" lang="hr-HR" sz="2900" spc="-1" strike="noStrike">
                <a:solidFill>
                  <a:srgbClr val="ff0000"/>
                </a:solidFill>
                <a:latin typeface="Georgia"/>
              </a:rPr>
              <a:t>)</a:t>
            </a: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3880" y="2362320"/>
            <a:ext cx="6477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teško “pozitivno” definira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Georgia"/>
              </a:rPr>
              <a:t>Scientific misconduc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Georgia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900" spc="-1" strike="noStrike">
                <a:solidFill>
                  <a:srgbClr val="ff0000"/>
                </a:solidFill>
                <a:latin typeface="Georgia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900" spc="-1" strike="noStrike">
                <a:solidFill>
                  <a:srgbClr val="ff0000"/>
                </a:solidFill>
                <a:latin typeface="Georgia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u predlaganju, provođenju, reviziji ili prikazivanju istraživanja i njihovih rezult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Georgia"/>
              </a:rPr>
              <a:t>NE</a:t>
            </a: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uključuje “poštenu” pogrešku (</a:t>
            </a:r>
            <a:r>
              <a:rPr b="0" lang="hr-HR" sz="2900" spc="-1" strike="noStrike">
                <a:solidFill>
                  <a:srgbClr val="ff0000"/>
                </a:solidFill>
                <a:latin typeface="Georgia"/>
              </a:rPr>
              <a:t>ispričiva zabluda</a:t>
            </a:r>
            <a:r>
              <a:rPr b="0" lang="hr-HR" sz="2900" spc="-1" strike="noStrike">
                <a:solidFill>
                  <a:srgbClr val="000000"/>
                </a:solidFill>
                <a:latin typeface="Georgia"/>
              </a:rPr>
              <a:t>) ili razlike u promišljanjim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3"/>
          <p:cNvSpPr/>
          <p:nvPr/>
        </p:nvSpPr>
        <p:spPr>
          <a:xfrm>
            <a:off x="1379520" y="2435400"/>
            <a:ext cx="712620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0000"/>
                </a:solidFill>
                <a:latin typeface="Georgia"/>
              </a:rPr>
              <a:t>fabrikacija</a:t>
            </a:r>
            <a:r>
              <a:rPr b="0" lang="hr-HR" sz="2500" spc="-1" strike="noStrike">
                <a:solidFill>
                  <a:srgbClr val="000000"/>
                </a:solidFill>
                <a:latin typeface="Georgia"/>
              </a:rPr>
              <a:t>– izmišljanje podataka i rezultata, te njihovo bilježenje i prikazivan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0000"/>
                </a:solidFill>
                <a:latin typeface="Georgia"/>
              </a:rPr>
              <a:t>falsificiranje</a:t>
            </a:r>
            <a:r>
              <a:rPr b="0" lang="hr-HR" sz="25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hr-HR" sz="2100" spc="-1" strike="noStrike">
                <a:solidFill>
                  <a:srgbClr val="000000"/>
                </a:solidFill>
                <a:latin typeface="Georgia"/>
              </a:rPr>
              <a:t>mijenjanje/izbacivanje/prepravljanje</a:t>
            </a:r>
            <a:r>
              <a:rPr b="0" lang="hr-HR" sz="2500" spc="-1" strike="noStrike">
                <a:solidFill>
                  <a:srgbClr val="000000"/>
                </a:solidFill>
                <a:latin typeface="Georgia"/>
              </a:rPr>
              <a:t> podataka ili rezult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0000"/>
                </a:solidFill>
                <a:latin typeface="Georgia"/>
              </a:rPr>
              <a:t>plagiranje</a:t>
            </a:r>
            <a:r>
              <a:rPr b="0" lang="hr-HR" sz="2500" spc="-1" strike="noStrike">
                <a:solidFill>
                  <a:srgbClr val="000000"/>
                </a:solidFill>
                <a:latin typeface="Georgia"/>
              </a:rPr>
              <a:t> – otuđivanje ideja, postupaka, rezultata ili riječi bez citiranja ili “honoriranja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Scientific misconduc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Georgia"/>
              </a:rPr>
              <a:t>AUTORSTVO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3:43:24Z</dcterms:created>
  <dc:creator>Vedran Katavic</dc:creator>
  <dc:description/>
  <dc:language>en-US</dc:language>
  <cp:lastModifiedBy>HUM</cp:lastModifiedBy>
  <dcterms:modified xsi:type="dcterms:W3CDTF">2017-02-20T09:16:24Z</dcterms:modified>
  <cp:revision>131</cp:revision>
  <dc:subject/>
  <dc:title>Tko je autor znanstvenog članka?</dc:title>
</cp:coreProperties>
</file>