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0A1-42E6-4774-BD9C-DA9A057A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9AC-6C21-403A-81A2-8EA7838C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8B1-4705-4149-8283-D6FD37C1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211-7E03-487C-BC7E-3C2B5CF4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3390-325B-484C-B8A0-151C4CB7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B637-DA4D-41DA-AFB4-413940B5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CD08-939E-46F5-8C82-5707CFA9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8B09-67BD-4294-8E69-249732BB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7265-87B9-4017-929B-8DE68691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3AA7-7701-450B-BA27-38084374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FB18-A961-483F-96DA-41DC452A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E1F-093A-46D1-BF6E-B3F3A8A8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0337-F032-468D-B6E8-21E35326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2212-D032-40AC-BC87-85AF2E14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8A88-897C-4D14-BB06-9706CDCD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D623-4BA8-4F0E-ADC0-BDC1C8C7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36A0-4DAB-42A2-8411-3EF2DD13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3B3-5A4D-4047-A64A-1743001A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7E6-616D-4B19-9383-A91F5BE4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E30-D5FC-4BDF-B09E-A1C81726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AB4-39D6-478D-A695-2AA12228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9F7-42FB-4652-B901-C2D7CDDF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4AF-F189-4F39-8C45-176CAB4C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5E1-4034-40E3-ABFF-13D39A8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CF02-3429-4C03-96AE-1456EC9CA571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B503-8CCD-4141-9346-F07453EF3417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ecff"/>
                </a:solidFill>
                <a:latin typeface="Garamond"/>
              </a:rPr>
              <a:t>KAKO TREBA, KAKO SE MOŽE, I KAKO JE LAKO PUBLICIRATI, A NAPOSE U KLIN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Matko Maruš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Croatian Medical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ecff"/>
                </a:solidFill>
                <a:latin typeface="Garamond"/>
              </a:rPr>
              <a:t>A. Zašto treba publicira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1. Znanje je svojina cijeloga čovječan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2. Pitanje pouzdanosti inform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3. Krajnje obrazovanje stručnj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a) Vrijednost iskustva recenzije</a:t>
            </a:r>
            <a:br>
              <a:rPr sz="3200"/>
            </a:b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b) Dokaz rada</a:t>
            </a:r>
            <a:br>
              <a:rPr sz="3200"/>
            </a:b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c) Slika 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4. Višestruke kori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ecff"/>
                </a:solidFill>
                <a:latin typeface="Garamond"/>
              </a:rPr>
              <a:t>B. Kako se može publicira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1. Planiranje istraživ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a) Raditi svoj pos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b) Hipote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c) Testiranje hipote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d) Provedba istraživ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e) Obrada podata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2. Pisanje izvješć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a) Što rade au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b) Kolegijalna prerecenz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c) Tehničko savršenst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3. Suradnja i združeni na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ecff"/>
                </a:solidFill>
                <a:latin typeface="Garamond"/>
              </a:rPr>
              <a:t>C. Zašto je lako publicira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ecff"/>
                </a:solidFill>
                <a:latin typeface="Garamond"/>
              </a:rPr>
              <a:t>D. Zašto je napose u klinici lako publicirat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1. Pitanja dolaze s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2. Veći raspon pristupa temi istraživa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a) Širina kliničkih pristu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b) Klinički laboratori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) Slučaje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3. Poželjnost ponavljanja stud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4. Višebolnička (multicentrična) istraživa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5. Nesavršenost je prihvatljiv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6. Automatizam financira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7. Velik broj i velika specijalizacija časopi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UM</cp:lastModifiedBy>
  <dcterms:modified xsi:type="dcterms:W3CDTF">2017-02-20T09:16:0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